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2.png" ContentType="image/png"/>
  <Override PartName="/ppt/media/image15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4.jpeg" ContentType="image/jpeg"/>
  <Override PartName="/ppt/media/image9.jpeg" ContentType="image/jpeg"/>
  <Override PartName="/ppt/media/image7.jpeg" ContentType="image/jpe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DE32D-7B12-4437-A2DA-91E414521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95351-F139-4EA2-803D-5ADC0B44B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7B475-CCE7-4B76-9123-7815CBD36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3834C-C2F0-4E63-B5F3-2C46B392D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1B3CF9-F2BC-4F58-93D4-66FBDC489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1CA7E9-53C0-416C-B5FD-E4A9794C9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248D89-3106-428B-AA83-5E2AA280D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D4EF6A-E55C-44F5-AA11-24A29FC6A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6309B4-E7E9-4554-8494-0DFEDD123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546107-43F3-4F68-AC73-F8EE9E6CE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61C93F-8009-4BCA-9848-DB9472CBB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DAA27-9BF3-4FE7-97EF-D4F349CA7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D6FE1D-7133-4A3B-AD2A-08379F2B4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4B07C7-29A5-4B32-B8C9-815220255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5086A2-C78A-410E-BA52-B5BA41AB4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13B9E5-89FF-41EF-8720-99B95122A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C65EE3-936A-4BC8-9983-CF1745456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1B62D-DC77-490E-BA15-6F0BB110E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4A564-18A7-4C39-B7BF-735F836F1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1F039-E915-4E12-B2B9-868E7DFE9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E8D10-F79F-4869-9556-057296A0E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FC9B5-F96A-4B3C-9589-F9988A1CC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721C1-C831-490A-A631-D953CB61E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EBC2F-0608-4F07-B52B-55A0CC36A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A7753-BD4E-4329-83CD-31CA6ED46A5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D5156-B2BA-47FB-8A4A-40779FA8458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Harlow Solid Italic"/>
              </a:rPr>
              <a:t>Meine Gesundhei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1676520" y="1828800"/>
            <a:ext cx="5867280" cy="4400640"/>
          </a:xfrm>
          <a:prstGeom prst="rect">
            <a:avLst/>
          </a:prstGeom>
          <a:ln w="7632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85" name=""/>
          <p:cNvSpPr/>
          <p:nvPr/>
        </p:nvSpPr>
        <p:spPr>
          <a:xfrm>
            <a:off x="609480" y="114300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auhaus 93"/>
              </a:rPr>
              <a:t>Gustav Ry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Ich esse viel Obst und Gemüse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533520" y="1816200"/>
            <a:ext cx="3124080" cy="260640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6324480" y="4329000"/>
            <a:ext cx="2400480" cy="232884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89" name="" descr=""/>
          <p:cNvPicPr/>
          <p:nvPr/>
        </p:nvPicPr>
        <p:blipFill>
          <a:blip r:embed="rId4"/>
          <a:stretch/>
        </p:blipFill>
        <p:spPr>
          <a:xfrm>
            <a:off x="5638680" y="1600200"/>
            <a:ext cx="2036880" cy="220032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90" name="" descr=""/>
          <p:cNvPicPr/>
          <p:nvPr/>
        </p:nvPicPr>
        <p:blipFill>
          <a:blip r:embed="rId5"/>
          <a:stretch/>
        </p:blipFill>
        <p:spPr>
          <a:xfrm>
            <a:off x="1600200" y="4343400"/>
            <a:ext cx="3048120" cy="208908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I jogge jeden tag in dem Morgen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1120680" y="2362320"/>
            <a:ext cx="2232000" cy="36208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5638680" y="2971800"/>
            <a:ext cx="2787840" cy="34671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Ich trinke keinen Alkohol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914400" y="1676520"/>
            <a:ext cx="2610000" cy="446724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4267080" y="2057400"/>
            <a:ext cx="3810240" cy="380988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Ich finde es schlecht, dass du rauchst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>
            <a:lum bright="-4000"/>
          </a:blip>
          <a:stretch/>
        </p:blipFill>
        <p:spPr>
          <a:xfrm>
            <a:off x="2286000" y="2514600"/>
            <a:ext cx="371484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Ich finde es prima dass du schlafst sehr genügen und isst dein Frühstück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990720" y="2819520"/>
            <a:ext cx="2857320" cy="285732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4648320" y="2895480"/>
            <a:ext cx="3809880" cy="285768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Ich darf die Fenster putzen weil ich grosse Junge bin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1905120" y="2286000"/>
            <a:ext cx="4876560" cy="32353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Ich darf nicht schlafe spät weil es ungesund ist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rcRect l="0" t="0" r="0" b="9479"/>
          <a:stretch/>
        </p:blipFill>
        <p:spPr>
          <a:xfrm>
            <a:off x="2362320" y="2057400"/>
            <a:ext cx="4762440" cy="327672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1T17:29:59Z</dcterms:created>
  <dc:creator>CUSD220</dc:creator>
  <dc:description/>
  <dc:language>en-US</dc:language>
  <cp:lastModifiedBy>CUSD220</cp:lastModifiedBy>
  <dcterms:modified xsi:type="dcterms:W3CDTF">2012-03-06T14:23:46Z</dcterms:modified>
  <cp:revision>5</cp:revision>
  <dc:subject/>
  <dc:title>Meine Gesundheit</dc:title>
</cp:coreProperties>
</file>